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81B2-C1A1-424F-B05E-B68A40A475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A566-9877-4BB6-937F-608BB5F55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1C49-A010-4040-A1EB-C9474A893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32CB-BD2F-4D03-A205-03D2EE3EB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C4DB-44D8-4826-B6F1-A43430BB0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B637-7BB0-4758-85D2-A73E3CECD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0E8D-4D10-4361-B68F-95FC2F72E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6822-40C5-4C73-B2D5-CAED7EF15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F25E-A878-43CB-A41B-8BF34DB99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7048-D3BC-44E9-98DB-7119E5D29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99E1-E265-4929-83B2-BFDF45433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32C5-8D82-4ABC-A634-8A43FD854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C01D-67AC-4A7C-BAF2-F4925767C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5BFF-A771-479E-B63D-E47EF293B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D314-A224-479E-B409-8E60D5BE2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8916-5238-4E0E-92C9-FAA7BC035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140C-A6CD-42B0-983C-877C898BF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7795-3FE6-45E6-B5CC-BD0CFCD45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3EFC-6866-4EA3-AC3B-3DF5630E7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22EC-2675-4CB0-BAD5-D5EE3D74B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948F-25D0-4D83-B3E4-83637837F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AA21-EDC5-4B86-ADA1-14E6CA9D3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DB1A-AC70-4F3B-863D-41C5FF067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2AED-E864-44F2-92E8-9500F654AC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424A-372A-4BCA-8F6B-AFA2D3249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414A-183C-4ED4-B709-293EB1B3A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8AC2-ADCD-4337-BB37-595577DDBE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A836-A3DB-4721-826D-B0B132BA2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4F56-D17B-48A5-8F64-8DB605F6B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26C0-6BE8-49F2-A639-2F127A500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712A-557B-468B-84D6-06FF3BC3A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78CB-DCF1-4D0C-9A81-3DFA8820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D288-F799-47E3-A7C2-8609B6C9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64DB-B7E7-43E6-8015-38795782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946D-C96A-404C-873A-B015B3F1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05A-0150-4D8F-87DA-F1212311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9676-5A8B-49F3-B5CC-2CFF46A2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152-4733-4CB7-912C-3176FA79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54C6-BDD2-468D-BB11-227F7BA7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9421-B757-4F5D-9755-1C4C317F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7876-DD0E-45AB-AA3A-50A53F7F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CD6D-134D-44B5-9260-A44AE43B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FC6E-5585-4DC1-8FA8-45C3B47C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D399-36A4-4BF2-8B98-E7FB35EA44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3F32-3973-495E-831F-B53EEC8B1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Up / EOC Pr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787320"/>
            <a:ext cx="9144000" cy="644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plete each situ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. As prey pop. increases, predator pop. 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2. As prey pop. decreases, predator pop. 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3. As predator pop. increases, prey pop. 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4. As predator pop. decreases, prey pop. 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5. Which of the following represents a correct ecological hierarch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munity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opulation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cosystem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i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opulation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munity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iosphere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co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opulation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munity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cosystem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i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cosystem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munity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opulation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i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5410080" y="9144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ou can abbreviate #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zone Deple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8600" y="14176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FCs were once widely used as propellants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aerosol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s and as coolan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refrigerator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freez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ce the CFC research was done, most uses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CFC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banne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however, CFC molecules can stick around for as long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100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years, so their effects are still being fel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014800" y="1957320"/>
            <a:ext cx="3305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zone Deple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level of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 CFC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s already began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fal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suggesting that the CFC ban work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urrent data predicts that the ozon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hole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uld shrink and disappear with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45342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life on Earth depends on specific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lim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ditions, so any change in climate could cause maj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cologic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1800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empera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 Earth’s surface h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is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0.6 Celsius degrees and since 1980, average temperatures have risen between 0.2 and 0.3 degrees Cels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cre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e average temperature of the biosphere is known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lobal wa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5324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362320" y="609480"/>
            <a:ext cx="424800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lobal 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vidence of Global Warm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lt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olar 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centration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arbon dioxide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the atmosphere have been rising for 200 years due to human activities such as the cutting and burning of forests and the burning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fossil fu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lobal 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Greenhouse effect-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rocess in which the production of infrared radiation by the atmosphere causes the warming of Earth’s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ding carbon dioxide increases the atmosphere’s natural greenhouse effect, causing the atmosphere to retain mo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hea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56748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lobal 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914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ffects of Global Warm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verage global surface temperatures  will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increas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y 1 to 2 Celsius degrees by the yea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2050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Sea level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y rise enough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floo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some coastal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rganisms may becom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threatene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extin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648320" y="2530440"/>
            <a:ext cx="40384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04052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1320" y="1143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mate Change WS / Global Temp.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 Re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295280" y="60199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cology Quiz 2 Friday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70068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yer of atmosphere that protects earth from harmful UV radiation is called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used the hole in the ozo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FC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radual warming of the earth is called wh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wa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ariety of life on earth is calle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ise management of organisms and preservation of habitats is calle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629040" y="2362320"/>
            <a:ext cx="2514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uid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03236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in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cology Quiz 2 Friday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iome Brochure Due Next Fri. (Feb. 18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68656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ers are gathering data to monitor and evaluate the effects of human activities on important systems in the biosphere.  Two of these system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zone L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lobal Climat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zone Deple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zon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yer-the atmosphere betwe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m above Earth’s surface that contains a relatively high concentra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zone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ecules of ozone consis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xygen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429000" y="40384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zone Deple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hough ozone at ground level is a pollutant, the naturally occurring ozone layer is very import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zone layer absorbs a lot of harmfu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ultraviol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UV) radiation from sunlight before it reaches Earth’s surf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4578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zone Deple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UV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adiation caus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sunbur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but it can also caus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cancer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damag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ey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and decrease an organism’s resistance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V radiation can also damage pl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refore the ozone layer serves as the Earth’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sun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4052880" cy="37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zone deple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the 1970s, scientists discover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hol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n the ozone layer abo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Antarc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then the hole has grow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lar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ientists have also found that gase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hlorofluorocarbon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or CFCs, can damage the ozone l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0556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2:20:43Z</dcterms:created>
  <dc:creator>Owner</dc:creator>
  <dc:description/>
  <dc:language>en-US</dc:language>
  <cp:lastModifiedBy>Angela Gorney</cp:lastModifiedBy>
  <dcterms:modified xsi:type="dcterms:W3CDTF">2011-02-05T22:16:45Z</dcterms:modified>
  <cp:revision>64</cp:revision>
  <dc:subject/>
  <dc:title>Climate Change</dc:title>
</cp:coreProperties>
</file>